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60C-5F62-43EA-AE47-6285E2CF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92E-9300-457D-89CD-B2265721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398-325A-4ADB-9A9B-E01AB7C9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58C-62F4-4F4D-B2B7-19F802E0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23D-4F2D-4249-B58D-C4217BD5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A9A-8E6F-4522-A34A-8035DD4A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557-37C6-4591-8BB8-2F34A6B3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3C9-BABC-4FDD-A9FE-A8C141FE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D73-C477-4618-BE2E-9C967D26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FC7-BD25-4546-8D26-4F35BDD2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075-C6D3-41C9-8F1E-3C091174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B85-5656-4AF2-B0C7-36978D6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29DC-4917-40E2-B5AB-E53FEB51C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based system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ques Olli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ver Koern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lso costs when delaying a system, e.g. loss of business through bad customer informatio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2514600"/>
          <a:ext cx="8381880" cy="1565280"/>
        </p:xfrm>
        <a:graphic>
          <a:graphicData uri="http://schemas.openxmlformats.org/drawingml/2006/table">
            <a:tbl>
              <a:tblPr/>
              <a:tblGrid>
                <a:gridCol w="2144160"/>
                <a:gridCol w="216000"/>
                <a:gridCol w="1886400"/>
                <a:gridCol w="1033920"/>
                <a:gridCol w="1034280"/>
                <a:gridCol w="1034280"/>
                <a:gridCol w="1032840"/>
              </a:tblGrid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of delays per time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AD9-D2C5-4222-B742-B807EB59BC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up input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e components’ sequ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the hierarchy b/w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duct the sequencing of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duct the costs of inter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duct the costs of del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FDA-CA50-49AB-828A-5738D5F80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olution: Sequence of system repla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440" y="22860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6400" y="22860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3960" y="18288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41680" y="3505320"/>
            <a:ext cx="237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8280" y="38098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124080" y="373356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705720" y="22096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19360" y="205740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33360" y="1905120"/>
            <a:ext cx="4343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22860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76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41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960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92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0280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BF4-783F-4251-AC55-D56CF2EB39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36400" y="449568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82480" y="544680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9720" y="342900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6760" y="2209680"/>
            <a:ext cx="7628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66040" y="213372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5640" y="449568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876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876560" y="4876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504960" y="3886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809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51460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796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olution: Sequence of component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41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9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344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9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9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944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67F-B90D-45DA-ACE2-36C93FA2DD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mplementation Phase I: Replace Customer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133360" y="3733920"/>
            <a:ext cx="3352680" cy="2286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440" y="16002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6400" y="16002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3960" y="13716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8280" y="31240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152388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240" y="144792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38280" y="16002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8000" y="487692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54080" y="582768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7240" y="487692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25780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48160" y="52578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952880" y="213372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324480" y="1752480"/>
            <a:ext cx="914400" cy="4267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209320" y="2285640"/>
            <a:ext cx="3962520" cy="3505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437920" y="2209320"/>
            <a:ext cx="4876920" cy="2590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809880" y="2437920"/>
            <a:ext cx="2362320" cy="3505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905120" y="3733560"/>
            <a:ext cx="4876560" cy="1143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981080" y="2285640"/>
            <a:ext cx="2286000" cy="2514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504960" y="2209320"/>
            <a:ext cx="990360" cy="2590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648320" y="1752120"/>
            <a:ext cx="2133360" cy="3048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85000" y="251460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895480"/>
            <a:ext cx="763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590560" y="1981080"/>
            <a:ext cx="1600200" cy="5335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B87-04CA-4DDA-A34D-6D7232EA3D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mplementation Phase II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Life and Health Admi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133360" y="3733920"/>
            <a:ext cx="3352680" cy="2286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8000" y="13716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8280" y="31240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16002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8000" y="487692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54080" y="582768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7240" y="487692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525780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48160" y="52578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172200" y="1752480"/>
            <a:ext cx="914400" cy="4267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905120" y="3733560"/>
            <a:ext cx="4876560" cy="1143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648320" y="175212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37640" y="251460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895480"/>
            <a:ext cx="763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41320" y="380988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876560" y="42670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41911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75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172200" y="1752480"/>
            <a:ext cx="380880" cy="2057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71800" y="3505320"/>
            <a:ext cx="26668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383-AD9F-4E24-8AC5-F06BE0E069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mplementation Phase III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remain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36600" y="495288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82680" y="590400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9920" y="388620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36960" y="2666880"/>
            <a:ext cx="7628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66240" y="259092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95288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53341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476760" y="53341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05160" y="43434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297180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248160" y="30481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C9E-8E42-4D1C-9484-62299B217B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A72-D51F-4B0F-8992-8863F1F620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/components dependen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701200">
            <a:off x="1714320" y="2552760"/>
            <a:ext cx="5029200" cy="19047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6800" y="2550960"/>
            <a:ext cx="3598920" cy="2706840"/>
          </a:xfrm>
          <a:prstGeom prst="ellipse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45000" y="3975120"/>
            <a:ext cx="47484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46600" y="2265480"/>
            <a:ext cx="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22720" y="2693880"/>
            <a:ext cx="955440" cy="99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46600" y="3121200"/>
            <a:ext cx="441360" cy="5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59440" y="1981080"/>
            <a:ext cx="1131840" cy="3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62120" y="2408400"/>
            <a:ext cx="1414440" cy="3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59440" y="2835360"/>
            <a:ext cx="113184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98800" y="3691080"/>
            <a:ext cx="124488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9680" y="3691080"/>
            <a:ext cx="130176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45000" y="4545000"/>
            <a:ext cx="1131840" cy="3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313240" y="4014720"/>
            <a:ext cx="73512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4648320"/>
            <a:ext cx="109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4419720"/>
            <a:ext cx="102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endent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124080"/>
            <a:ext cx="16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17920" y="344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419720"/>
            <a:ext cx="140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 Polic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4800600"/>
            <a:ext cx="1244520" cy="3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5257800"/>
            <a:ext cx="1219320" cy="45720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0DB-C82F-4CDD-9F30-42B82D7F3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companies were among the first to adopt computer technolog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ity of these companies have monolithic systems.  These systems are designed to address one or more business processes (e.g. Claims handling) and include all necessary func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have many (often hundreds) of these systems. Function or business rules are hereby repeated many times which makes the extension and maintenance of these system very costly and leng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are looking to replace the older systems with new ones to achieve competitive advantages, reduce cost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78F-3332-4205-B7DB-55DAE6877D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for a simplified system portfolio of an insurance 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440" y="22860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6400" y="22860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83960" y="18288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41680" y="3505320"/>
            <a:ext cx="237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8280" y="38098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679-4AC5-4DFD-9CCE-BE6FCDBE09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ystems have dependencies. The Claim System e.g. accesses the Customer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40" y="22860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6400" y="22860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3960" y="18288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41680" y="3505320"/>
            <a:ext cx="237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8280" y="38098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24080" y="373356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05720" y="22096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419360" y="205740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133360" y="1905120"/>
            <a:ext cx="4343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8280" y="22860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928-ECF8-4FFD-9F84-1B2746471F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based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cent years companies have adopted the idea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based develop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omponent does not implement an entire business process, but only certain related fun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y component e.g. could include all the necessary functions to administrate persons and organizations and the roles they play for the company (e.g. Policy Holder, Insured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unction is only implemented once.  If a component needs to use that function it access the component that implements it, rather than replica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E64-C24C-42AD-98F5-22EEF2D0DD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6400" y="449568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82480" y="544680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9720" y="342900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6760" y="2209680"/>
            <a:ext cx="7628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66040" y="213372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25640" y="449568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4876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876560" y="4876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4960" y="3886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3809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251460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4796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s are organized in a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D97-833E-4BC2-9189-B651FAFA30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lace systems through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 component covers an entire business process. Therefore multiple components are needed to cover the functions of a sing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components and systems have dependencies, determining the sequence in which to replace which system with which component can be tric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systems can be replaced at once, so system interfaces might be required to integrate new components with ol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FEE-3CE4-4078-A51E-0E16CB472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trix shows which components cover which sys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8880" cy="4525200"/>
        </p:xfrm>
        <a:graphic>
          <a:graphicData uri="http://schemas.openxmlformats.org/drawingml/2006/table">
            <a:tbl>
              <a:tblPr/>
              <a:tblGrid>
                <a:gridCol w="1415160"/>
                <a:gridCol w="1363320"/>
                <a:gridCol w="1362600"/>
                <a:gridCol w="1362240"/>
                <a:gridCol w="1363320"/>
                <a:gridCol w="1362240"/>
              </a:tblGrid>
              <a:tr h="115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e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9D2-2037-4A51-83D5-8917258F5B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and the cost of building interfaces to the existing sys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8880" cy="4525200"/>
        </p:xfrm>
        <a:graphic>
          <a:graphicData uri="http://schemas.openxmlformats.org/drawingml/2006/table">
            <a:tbl>
              <a:tblPr/>
              <a:tblGrid>
                <a:gridCol w="1415160"/>
                <a:gridCol w="1363320"/>
                <a:gridCol w="1362600"/>
                <a:gridCol w="1362240"/>
                <a:gridCol w="1363320"/>
                <a:gridCol w="1362240"/>
              </a:tblGrid>
              <a:tr h="11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3FD-3E37-437D-8F08-FA0C99F77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56:47Z</dcterms:created>
  <dc:creator>IBM_USER</dc:creator>
  <dc:description/>
  <dc:language>en-US</dc:language>
  <cp:lastModifiedBy>IBM_USER</cp:lastModifiedBy>
  <dcterms:modified xsi:type="dcterms:W3CDTF">2004-08-06T13:05:43Z</dcterms:modified>
  <cp:revision>9</cp:revision>
  <dc:subject/>
  <dc:title>System dependency</dc:title>
</cp:coreProperties>
</file>